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CA4-4C62-4A82-B114-21E6EEAC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1F3-F48F-4A6E-8EF2-AF93465B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51A-7A45-4B55-BE6E-B28A4005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29D-758A-4487-B891-E50E0BD8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BD2-EF81-463C-AED0-B4D241BA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95A-A7E6-46A1-9AD2-CA5141AF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9B4-ECB1-42D5-A530-12F5A937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54C-D4DA-49F0-8F54-15AEBF56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E3F-E0CA-4CF9-8ED5-7327C013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D5F-ED31-4A43-9597-AA54A3C2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020-3D11-4C47-B6C2-9466E6CF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F03-9310-4BAF-A106-0CD9A5A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D90A-9CB7-43AF-8DE9-0CD1A428D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goeshealth.com/wp-content/uploads/2012/02/baby-toothbrush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905120"/>
            <a:ext cx="49532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462f75"/>
                    </a:gs>
                    <a:gs pos="100000">
                      <a:srgbClr val="9966ff"/>
                    </a:gs>
                  </a:gsLst>
                  <a:lin ang="13500000"/>
                </a:gradFill>
                <a:latin typeface="Arial Black"/>
              </a:rPr>
              <a:t>La Bebé Rutina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50000">
                    <a:srgbClr val="462f75"/>
                  </a:gs>
                  <a:gs pos="100000">
                    <a:srgbClr val="9966ff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3581280"/>
            <a:ext cx="4343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462f75"/>
                    </a:gs>
                    <a:gs pos="100000">
                      <a:srgbClr val="9966ff"/>
                    </a:gs>
                  </a:gsLst>
                  <a:lin ang="8100000"/>
                </a:gradFill>
                <a:latin typeface="Arial Black"/>
              </a:rPr>
              <a:t>By: Nicole Hill, and Faye Sino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50000">
                    <a:srgbClr val="462f75"/>
                  </a:gs>
                  <a:gs pos="100000">
                    <a:srgbClr val="9966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ccff"/>
                </a:solidFill>
                <a:latin typeface="Comic Sans MS"/>
              </a:rPr>
              <a:t>El beb</a:t>
            </a:r>
            <a:r>
              <a:rPr b="0" lang="en-US" sz="3200" spc="-1" strike="noStrike">
                <a:solidFill>
                  <a:srgbClr val="00ccff"/>
                </a:solidFill>
                <a:latin typeface="Comic Sans MS"/>
                <a:ea typeface="Arial"/>
              </a:rPr>
              <a:t>è se desperta enseguida en la manaña. Despues, el bebé se levanta de la cam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00680" cy="36385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3124080" y="380880"/>
            <a:ext cx="3029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3399ff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spertarse</a:t>
            </a:r>
            <a:endParaRPr b="0" lang="en-US" sz="1800" spc="1" strike="noStrike">
              <a:ln w="1260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3399ff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0666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Ba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Arial"/>
              </a:rPr>
              <a:t>ñ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El beb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  <a:ea typeface="Arial"/>
              </a:rPr>
              <a:t>è se baña, no se ducha. Se lava el pelo con el champú, y se lava el cuerpo con una barra de jab</a:t>
            </a:r>
            <a:r>
              <a:rPr b="1" lang="el-GR" sz="2800" spc="-1" strike="noStrike">
                <a:solidFill>
                  <a:srgbClr val="6600cc"/>
                </a:solidFill>
                <a:latin typeface="Comic Sans MS"/>
                <a:ea typeface="Arial"/>
              </a:rPr>
              <a:t>ό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  <a:ea typeface="Arial"/>
              </a:rPr>
              <a:t>n. El bebé se cepilla de dientes con un tubo de pasta denti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048120" cy="27432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49" name="" descr="baby toothbrush 200x300 baby toothbrus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3733920"/>
            <a:ext cx="2514600" cy="285732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66ff33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 beb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e pone la ropa y se cepilla el pelo. De vez cuando se mira en el espejo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346200" cy="2485800"/>
          </a:xfrm>
          <a:prstGeom prst="rect">
            <a:avLst/>
          </a:prstGeom>
          <a:ln w="57240">
            <a:solidFill>
              <a:srgbClr val="9966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873160" cy="2914920"/>
          </a:xfrm>
          <a:prstGeom prst="rect">
            <a:avLst/>
          </a:prstGeom>
          <a:ln w="76320">
            <a:solidFill>
              <a:srgbClr val="66ff33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2286000" y="380880"/>
            <a:ext cx="4572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ff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nerse La rop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66ff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66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ayun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be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é se desayuna en la cocina. Se toma un vaso de jugo de naranja, y el pan tostado. Despues, se lava los manos y la ca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124080" cy="3124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2857680" cy="1886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49:01Z</dcterms:created>
  <dc:creator>hillnic</dc:creator>
  <dc:description/>
  <dc:language>en-US</dc:language>
  <cp:lastModifiedBy>hillnic</cp:lastModifiedBy>
  <dcterms:modified xsi:type="dcterms:W3CDTF">2012-04-04T17:21:28Z</dcterms:modified>
  <cp:revision>4</cp:revision>
  <dc:subject/>
  <dc:title>La bebe rutina</dc:title>
</cp:coreProperties>
</file>